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F76-F475-496C-8673-B532A674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65D4-60E1-4CCA-87EC-539CD479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F620-78F2-4D4B-B15C-5F40ACC0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28A9-EDD0-4AAE-AE03-1677C7C3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CEB4-4141-42D5-943D-87F52FE9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160-EABB-42F5-9AA7-437EF29A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226-0F0D-4737-8B4F-D92549C1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EE39-FF35-4066-B5DD-D28C239B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6B10-B7E2-4496-A1DC-F6954C2D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497F-E48A-461E-9A1E-44509696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8CCD-C854-4064-A95D-87F5F516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E7C5-92A2-48B6-8B28-D59B981D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452A-DD7C-45CB-8578-489D01E35B7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using mini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stall min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etup min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Install mini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Use “yum” online package inst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x: “yum search minic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x: “yum install minic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x: “yum remove minic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etup mini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fter successful installing minicom, you should setup it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Run: “minicom -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etup serial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ave setup as dfl, then exit form mini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4343400"/>
            <a:ext cx="1627200" cy="127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38480" y="4343400"/>
            <a:ext cx="41356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Run: “minico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trl+A, then Z to open help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85759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 loopback modul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the status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plugging null modem, Offline has changed to on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4710240" cy="112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523880" y="5562720"/>
            <a:ext cx="441972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o a serial conn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ke loopback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The connect setting must b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Even the flow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o a fil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elect transfer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zm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hange Dir, [Goto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Tag a file, [Okay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4952880"/>
            <a:ext cx="817560" cy="817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733920" y="4572000"/>
            <a:ext cx="4294080" cy="1289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657600" y="5943600"/>
            <a:ext cx="431496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4475160" cy="165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371600" y="3886200"/>
            <a:ext cx="440532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283</cp:lastModifiedBy>
  <dcterms:modified xsi:type="dcterms:W3CDTF">2013-03-15T09:06:0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